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058-5140-4581-96D1-A7691A33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5B4-3589-42AA-9A0A-783263DD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334-0533-4E0D-8AEC-2B13F57A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525-9151-4B62-9884-CDA7612C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920-4FAC-4B4E-8D8B-97E95E7A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F24-C078-4B67-8424-6ACD7DDD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227-C342-42BF-BD1C-E49C23E5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9BA-119F-4B7C-8C39-8215C78E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442-C269-48DA-9FE0-09D96EC1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F82-7373-482B-80B7-A1E3FE8E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BBC-C6D7-4C3D-871C-BAE91B2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C7D-D6E5-47B3-AEA3-EE1A31E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E920-A56B-4572-95DD-F4F39894B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. 1922      LANARKSHIRE  ASSOC.  1928          LANARKSHIRE  ASSOC.           LANARKSHIRE  ASSOC.  100TH.                     BELTANE                                             BELT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TANE                                             BIGGAR                                           CARLUKE                                         CARLUKE                                         CARLUKE                          CARLUKE  V  CAMPHILL  100TH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LUKE  100TH                          CARLUKE  125TH                                      CARNWATH                                   CARSTAIRS                                        CASTLEHILL                             CASTLEHILL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VILLE  PARK                      COLVILLE  PARK                              COLVILLE  PARK  5OTH                COLVILLE  PARK  75TH                            DALZELL                                           DALZ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189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40160" y="26028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8196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265960" y="26028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073240" y="1989000"/>
            <a:ext cx="1133640" cy="99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024520" y="1628640"/>
            <a:ext cx="139068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88880" y="314172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00520" y="3860640"/>
            <a:ext cx="987480" cy="9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168880" y="3716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824520" y="3716280"/>
            <a:ext cx="97020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76160" y="5516640"/>
            <a:ext cx="8226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87768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5084640"/>
            <a:ext cx="8586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240160" y="537372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81960" y="5157720"/>
            <a:ext cx="135252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408880" y="5373720"/>
            <a:ext cx="87804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8265960" y="1700280"/>
            <a:ext cx="1206720" cy="128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6608880" y="1773360"/>
            <a:ext cx="1326960" cy="117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728880" y="1989000"/>
            <a:ext cx="100980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429000"/>
            <a:ext cx="1284480" cy="13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93240" y="3933720"/>
            <a:ext cx="132696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60520" y="2060640"/>
            <a:ext cx="106020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114200" cy="10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073240" y="26028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7:54:25Z</dcterms:created>
  <dc:creator>JOHN YOUNG</dc:creator>
  <dc:description/>
  <dc:language>en-US</dc:language>
  <cp:lastModifiedBy>JY</cp:lastModifiedBy>
  <cp:lastPrinted>1999-12-15T19:38:48Z</cp:lastPrinted>
  <dcterms:modified xsi:type="dcterms:W3CDTF">2008-04-08T09:35:38Z</dcterms:modified>
  <cp:revision>25</cp:revision>
  <dc:subject/>
  <dc:title>No Slide Title</dc:title>
</cp:coreProperties>
</file>